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891-8306-4347-B9B1-DE737AF1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0F9-ACB0-4659-962F-4564BBDE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00EFB-A8E9-48CE-B62A-3064E90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C5174-5C8B-4532-870D-58D948A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79855-0CCC-4225-83CC-D1A00079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52106-E64E-42A5-B773-07665B9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1AEAA-9039-42E1-A631-F8D5F61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FC0B1-18B7-47CA-9CED-F662DBD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61F62-B38B-40CA-B059-6E93DE2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8A89A-41E9-4775-BDE3-08B222F9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6BD54-35A9-42A9-8A08-FA6102C0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88C69-EA88-4D35-AE75-A82B811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788-17DB-48B4-A37B-529AF6ED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E1BA9-A151-4790-812D-7ED00F92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1A747-D1D2-4E79-B474-FA47F980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27473-8BA5-4AC3-B023-52A9246C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3677B-E9C5-438B-AAC0-735904CA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EFB86-F403-4E21-9AB4-3182CF3E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499CC-D889-4BBA-BDDA-D921640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6106F-FB1C-4D2D-9107-B38AED2D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582BF-B34E-4819-9807-3EBC1E9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B0DAA-109B-43C1-9001-4334A375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E0325-AFB1-4155-A91A-F4A43754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121-D0B2-4CAD-8800-8992986E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06364-DE5B-4654-9E68-905F5602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7E0D-F287-4747-870A-C3DE51EC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8D37E-69BD-4E4E-9127-108BA698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AAF2B-871B-45F5-8F3C-028E694A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26F9E-0A8C-4037-80AA-A357993E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632E-769B-414B-87A5-E2DB82A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6EA10-7AAF-464F-9889-23EA6B1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F65CB-4FFF-4737-943C-8340FF9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156E7-60A2-4777-B853-C1EDF8E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30FF2-27FE-4511-B3B1-44819A9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38AE-6E27-4292-B09D-F4A1EC49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FAFA9-B50C-4836-AEEF-7411EF69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35C24-0CC2-4B4A-B6BA-675D9563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2DF3C-1AFC-41D4-8AEB-2E97B24B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EEEA1-5594-42FE-8D83-6D7A97A1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81DF3B-8385-4363-B272-54DDC30B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8FC38-1F3C-491A-B301-EF36135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F7C05-59B5-4DCE-ABC4-97DEFB26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FD0BE-30C6-4667-87F8-B995E976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7A221-0998-444A-B7FD-F11ECBB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F40C3-F8B2-4F49-9DDC-1D402CD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B739-DC94-4A20-85BB-F7EE480D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F0E59-C876-46AB-9791-7AD286A1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04867-8DCE-4539-BD5B-BA498AAB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FC6A7-F808-49DB-B80D-B6337A9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FE730-E62F-4081-9252-CC37FF56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AE3DE-F555-41C0-9C7F-93E1D50A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46E-8923-4DD5-AB05-BDE33F71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3226-A662-4578-A3EF-93921671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0724-7130-46DE-8EE2-FD60BFB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456-349B-42D0-8448-B26767FA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1B7-8B56-47D3-850F-09D4D20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030-6551-46E7-94FE-7C55DA1A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8D5-2485-4992-A522-DE13E30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BD99-536E-4C9C-B175-FD6D1A89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40F2-80F4-4749-BF96-027E79B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C63D-82EC-490D-B146-C6FEED98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3248-DC6F-4A45-9E83-2DF2DA2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A493B-77D4-4170-B9B1-749656D7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8BBB5-B5CE-4F8E-8C1F-A28FC05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33C8-7E09-4584-ACCC-991B4147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D675-F080-4252-9915-0115BCAD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D14D4-F3F9-4010-8F46-D0AF15F2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3E0-996E-4B51-9449-CF82D6A9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B7A9-353A-47B6-B954-93745D4E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798A8-2109-4E44-8687-02D8032B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156B-B463-4CC4-AA13-A68FCF89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12A5-5C5C-4AF1-A97F-8F81E96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8523-9E8F-4AA6-AB40-A1F54310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EC6E1-9209-40AC-8AB8-8BCC18E4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91EC-463B-4F58-A6CF-0CEB691B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DC7C0-E389-4E99-A3AC-DF443271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8BF15-6B1A-4A25-B009-25B0C4E7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78B1C-D966-4F5C-9D46-71817148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AEE-CA4E-4DAC-8EB4-69286AF1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2B5B-973C-43FE-9385-FDFA8F67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756C-96B3-4864-9B28-F19BDDF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6EA4-8666-4BD0-8F1A-F832115B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AAEE-04BF-44E2-B9D8-476F229F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6B226-2B57-490C-AD1F-8549F22F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1085-218D-46B9-9506-23BAE46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1E876-B2D9-4B2A-92BA-F1828A7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FD665-A154-485C-B1D4-6E1D4F35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C1453-2865-40C5-9DB1-969C3054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3E66-3F87-49FD-A1A4-56359A55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798-73EB-408A-AD3D-2BAED91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6934-93BC-49CF-85B5-48ED6243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8A4F-3E46-4EFF-8406-EB0A1255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4BF0D-86CE-4CAE-8932-D4CD80D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336E-9D52-415A-8EB8-A24D2F0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CD5F5-DB8B-4434-A8B4-B4073D95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2D30-863F-4056-B7FB-947D1FA7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3AFE-0901-4589-812C-F08E5517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7567-6616-48B9-AC30-7CC2284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EC575-56CF-46DC-8ACE-4BA3018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80E4E-E691-48F5-9DC9-6A87A674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C7-36D5-43C0-BBBA-6DC8C560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A18D9-3CBE-4ABB-8DEB-7747F446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6E94-5701-48CC-82E2-07E64935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94A2-25B7-4EB2-9671-37426FE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6F66-923F-4E7D-9732-C193054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14857-B0C4-44E0-AF5D-2912D437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0321-D1B0-4648-8026-42F58B5A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64F73-E39C-4F96-B437-4E764BA7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08D0A-B464-464C-9DC2-C03EDBE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B0FB2-67D1-4A7F-85A8-7A5DDF7B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CC4F-FA94-48E6-BB0C-0A25A5A5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4E8-A698-4609-B45D-02FC61F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90F8-FD2A-4368-88A7-C5056E7E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3798-88A0-4BC3-BDE8-F53FC7ED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367D-F8BF-4462-A7B4-8E382DD8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7C495-4B98-4321-B714-04D64263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87053-8456-460A-88B8-82FE57BD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3607-0C94-4F52-A5FF-F8B75BF5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3D631-66E5-4D39-BB8C-B0C1B17C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B93F-7354-4F24-99A5-33B46EA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C3595-19DA-4988-9ABA-1F65CDA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7BF6F-A240-4890-90F6-8C043D7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1F9-FC0D-4BE7-BFA3-FCA32941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5A95-F8B2-4FBC-9C21-1CAB7A53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1E88-0A95-4535-88D5-C2E5AEE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8A69-5E8B-4036-A05E-4C8A123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B682-2EF9-4043-9796-60375A0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1AA4C-B7C4-4B6A-A275-6553C669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FD974-0B13-473B-97A7-D2EAD748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E43F5-6513-47BB-AD39-A93824EB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2CC27-F539-4D2C-A244-5D164283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17ECB-FF2B-4D40-AEAE-BE8CFD15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CC18E-89D7-486D-A679-625DF1C5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659-36AF-4AC7-8B24-CF69DE46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B7C1A-52A3-4E43-8AE8-6AC23E64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F105-9D49-4B45-81E6-5360486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B1970-B0DA-4942-BCC7-F935212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27EE-FABB-4E9C-BADD-735C7E0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A9CD-C45E-4B6B-9FEA-FB6C680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815EA-3AB3-4B34-9AAF-B3661F50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52B42-FBD5-49DF-BD9C-6F788967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D0949-30F7-41D4-ADAD-09E42655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5908A-83CA-4DCF-8DD5-CEDD3F99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095C1-151A-4AFC-B8BB-FB85403A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85AA-6DB2-45A9-8675-679CD7DA6BF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7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11E-A1CE-415E-9FD9-A79B7E3472B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4E36-5BE9-4B03-8962-E2DC3D2C33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421B-A2F0-43F6-B804-1226AEFB1D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C832-19F3-4160-B557-BC1B4E5700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2535-DEC9-4CC2-B699-99B01990D0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9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7E8E-9351-4A9E-B914-487CEEDD8C9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2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BA72-74FE-4191-BF0C-EADC0F93214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5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C3F0-3158-4B4B-AC22-CD6BB4180E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C4C-9B33-461B-9E61-3C65C65C84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BF1-D43E-4930-B2A7-FDD290FD4D9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4" name="Slika 6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ECB-31D2-4B28-BF64-D4749627A4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44838"/>
                </a:solidFill>
                <a:latin typeface="Arial"/>
                <a:ea typeface="Arial"/>
              </a:rPr>
              <a:t>Unutarnja energija i toplin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 čemu se razlikuju vrući i hladni napit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tempera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znamo o topli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245040" cy="457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"/>
          <p:cNvPicPr/>
          <p:nvPr/>
        </p:nvPicPr>
        <p:blipFill>
          <a:blip r:embed="rId2"/>
          <a:stretch/>
        </p:blipFill>
        <p:spPr>
          <a:xfrm>
            <a:off x="3733920" y="3424320"/>
            <a:ext cx="3832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6"/>
          <p:cNvSpPr/>
          <p:nvPr/>
        </p:nvSpPr>
        <p:spPr>
          <a:xfrm>
            <a:off x="5760" y="1295280"/>
            <a:ext cx="86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širi  boja (kalijev permanganat ili tinta) u menzurama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ućom i hladnom vo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"/>
          <p:cNvSpPr/>
          <p:nvPr/>
        </p:nvSpPr>
        <p:spPr>
          <a:xfrm>
            <a:off x="3209760" y="4724280"/>
            <a:ext cx="5040720" cy="82548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 vrućoj vodi se čestice gibaju brž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a se voda brže obo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2211120" cy="2743200"/>
          </a:xfrm>
          <a:prstGeom prst="rect">
            <a:avLst/>
          </a:prstGeom>
          <a:ln w="0">
            <a:noFill/>
          </a:ln>
        </p:spPr>
      </p:pic>
      <p:pic>
        <p:nvPicPr>
          <p:cNvPr id="643" name="Slika 5" descr=""/>
          <p:cNvPicPr/>
          <p:nvPr/>
        </p:nvPicPr>
        <p:blipFill>
          <a:blip r:embed="rId2"/>
          <a:stretch/>
        </p:blipFill>
        <p:spPr>
          <a:xfrm>
            <a:off x="282600" y="77940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1"/>
          <p:cNvSpPr/>
          <p:nvPr/>
        </p:nvSpPr>
        <p:spPr>
          <a:xfrm>
            <a:off x="2846880" y="642960"/>
            <a:ext cx="29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emperatu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"/>
          <p:cNvSpPr/>
          <p:nvPr/>
        </p:nvSpPr>
        <p:spPr>
          <a:xfrm>
            <a:off x="610200" y="1571760"/>
            <a:ext cx="707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jera zagrijanosti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tijelo više zagrijano, temperatura mu je vi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2581200" cy="2286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3" descr=""/>
          <p:cNvPicPr/>
          <p:nvPr/>
        </p:nvPicPr>
        <p:blipFill>
          <a:blip r:embed="rId2"/>
          <a:stretch/>
        </p:blipFill>
        <p:spPr>
          <a:xfrm>
            <a:off x="4638600" y="3581280"/>
            <a:ext cx="2448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Box 3"/>
          <p:cNvSpPr/>
          <p:nvPr/>
        </p:nvSpPr>
        <p:spPr>
          <a:xfrm>
            <a:off x="867960" y="1714680"/>
            <a:ext cx="63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Čestice vruće vode ima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inetičku energiju (zbog gib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tenc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nu energiju (zbog međudjelo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4"/>
          <p:cNvSpPr/>
          <p:nvPr/>
        </p:nvSpPr>
        <p:spPr>
          <a:xfrm>
            <a:off x="513720" y="3483000"/>
            <a:ext cx="7660440" cy="173988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</a:t>
            </a:r>
            <a:r>
              <a:rPr b="0" lang="en-US" sz="2400" spc="-1" strike="noStrike">
                <a:solidFill>
                  <a:srgbClr val="fb1e1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a je z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broj  kinetič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 potencij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nerg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svi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čestica unutar tijela.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eća je što je viš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a i što je veća masa tij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5"/>
          <p:cNvSpPr/>
          <p:nvPr/>
        </p:nvSpPr>
        <p:spPr>
          <a:xfrm>
            <a:off x="2517120" y="57168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Unutarnja energ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917640" y="5029200"/>
            <a:ext cx="44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značujemo  je slov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 džul (znak J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1"/>
          <p:cNvSpPr/>
          <p:nvPr/>
        </p:nvSpPr>
        <p:spPr>
          <a:xfrm>
            <a:off x="3341160" y="642960"/>
            <a:ext cx="180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b1e19"/>
                </a:solidFill>
                <a:latin typeface="Arial"/>
                <a:ea typeface="Arial"/>
              </a:rPr>
              <a:t>Topl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512640" y="1500120"/>
            <a:ext cx="796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b1e19"/>
                </a:solidFill>
                <a:latin typeface="Arial"/>
                <a:ea typeface="Arial"/>
              </a:rPr>
              <a:t>Topl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nutarnja energija u prijelazu s toplijeg na hladnije tij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čujemo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vom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topline džul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nak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38419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Box 4"/>
          <p:cNvSpPr/>
          <p:nvPr/>
        </p:nvSpPr>
        <p:spPr>
          <a:xfrm>
            <a:off x="380880" y="1066680"/>
            <a:ext cx="7958160" cy="1191240"/>
          </a:xfrm>
          <a:prstGeom prst="rect">
            <a:avLst/>
          </a:prstGeom>
          <a:solidFill>
            <a:srgbClr val="f2dcdb"/>
          </a:solidFill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lina prelazi s toplijeg na hladnije tijelo sve dok se temperature tih tijela ne izjednač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8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35304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Box 3"/>
          <p:cNvSpPr/>
          <p:nvPr/>
        </p:nvSpPr>
        <p:spPr>
          <a:xfrm>
            <a:off x="268920" y="1676520"/>
            <a:ext cx="7905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nasumično gibanje molekula ovisi o temperaturi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unutarnja energija? O čemu ovis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toplin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Slika 2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38862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2:31Z</dcterms:created>
  <dc:creator>Slavko</dc:creator>
  <dc:description/>
  <dc:language>en-US</dc:language>
  <cp:lastModifiedBy>Tomislav Dumančić</cp:lastModifiedBy>
  <dcterms:modified xsi:type="dcterms:W3CDTF">2019-09-17T09:01:27Z</dcterms:modified>
  <cp:revision>24</cp:revision>
  <dc:subject/>
  <dc:title>Slide 1</dc:title>
</cp:coreProperties>
</file>